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33E-1D59-40A7-8F06-05E337B3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527-586B-46FB-BA62-FED33BAB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AD2-05CA-4C72-9E9F-1AB32E26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A0E-9B36-418C-9067-4DBF1992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124-77EE-4C35-B45B-1F5FF23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D3E-1781-4FBA-A198-729024B8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D1C-6753-473A-AD1B-B27F37FF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2ED-6E32-4CBD-93B0-E33686E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92B-215B-404C-83F3-749C40D5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914-BFCC-4C73-AC64-8DE3E88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F80-ADD0-4CD1-92AD-6EE82AE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464-4A31-477A-A4A2-BDFAC9D8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0E1-C4E3-4F54-9306-3734A42C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hez.com/thomasbloch/FranklinArmonicaDessin.jpg&amp;imgrefurl=http://www.chez.com/thomasbloch/rarGLASS.htm&amp;h=516&amp;w=392&amp;sz=51&amp;hl=ca&amp;start=6&amp;tbnid=ElCc11mG9AIiAM:&amp;tbnh=131&amp;tbnw=100&amp;prev=/images%3Fq%3Darmonica%2Bde%2Bcristal%2Bde%2Bbenjamin%2Bfranklin%26gbv%3D2%26hl%3Dc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Image:Benjamin_Franklin_by_Benjamin_Wilson%2C_1759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981000"/>
            <a:ext cx="8207280" cy="251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urier New"/>
              </a:rPr>
              <a:t>BENJAMIN FRANKLI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urier New"/>
              <a:ea typeface="Courier Ne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903760" cy="358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urlz MT"/>
              </a:rPr>
              <a:t>BY: ALICIA ROCHE CRUZ</a:t>
            </a:r>
            <a:r>
              <a:rPr b="1" lang="en-US" sz="3200" spc="-1" strike="noStrike">
                <a:solidFill>
                  <a:srgbClr val="3399ff"/>
                </a:solidFill>
                <a:latin typeface="Curlz MT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Curlz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Broadway"/>
              </a:rPr>
              <a:t>BIOGRAP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Broadway"/>
              </a:rPr>
              <a:t>EARLY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13372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205000"/>
            <a:ext cx="8424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His father was, Josiah Franklin. His mother was,   Abiah Folger. A descendant of the Folgers, J. A. Fol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00cc"/>
                </a:solidFill>
                <a:latin typeface="Comic Sans MS"/>
              </a:rPr>
              <a:t>Josiah and Abiah had the following children: John. Peter. Mary. James. Sarah. Ebenezer. Thomas. </a:t>
            </a:r>
            <a:r>
              <a:rPr b="1" lang="de-DE" sz="2400" spc="-1" strike="noStrike" u="sng">
                <a:solidFill>
                  <a:srgbClr val="9900cc"/>
                </a:solidFill>
                <a:uFillTx/>
                <a:latin typeface="Comic Sans MS"/>
              </a:rPr>
              <a:t>Benjamin</a:t>
            </a:r>
            <a:r>
              <a:rPr b="1" lang="de-DE" sz="2400" spc="-1" strike="noStrike">
                <a:solidFill>
                  <a:srgbClr val="9900cc"/>
                </a:solidFill>
                <a:latin typeface="Comic Sans MS"/>
              </a:rPr>
              <a:t>.Lydia and J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Comic Sans MS"/>
              </a:rPr>
              <a:t>Josiah married Anne Child at Ecton, and over the next few years had three children.These half-siblings of Benjamin Franklin included Elizabeth.Samuel and Hann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764 0.01572 C -0.49549 0.00486 -0.50104 -0.01156 -0.49948 -0.03214 C -0.49931 -0.03445 -0.49948 -0.03792 -0.49792 -0.03884 C -0.49392 -0.04115 -0.48906 -0.04023 -0.48472 -0.04092 C -0.46719 -0.04023 -0.44948 -0.04323 -0.43229 -0.03884 C -0.42847 -0.03792 -0.42847 -0.02936 -0.4257 -0.02566 C -0.41962 -0.01757 -0.41632 -0.00786 -0.41094 0.00046 C -0.40382 0.01133 -0.38993 0.01804 -0.37986 0.02012 C -0.37049 0.01942 -0.36111 0.02035 -0.35191 0.01804 C -0.34479 0.01619 -0.33715 -0.00092 -0.33229 -0.00832 C -0.32761 -0.01549 -0.3217 -0.02219 -0.31754 -0.03006 C -0.30938 -0.04532 -0.30434 -0.0578 -0.28958 -0.06289 C -0.27292 -0.06219 -0.24566 -0.06913 -0.22899 -0.0541 C -0.22222 -0.04046 -0.21701 -0.03006 -0.21267 -0.0148 C -0.20851 0.01596 -0.20799 0.0437 -0.18142 0.05295 C -0.15226 0.05133 -0.12188 0.05457 -0.09618 0.0333 C -0.08455 0.02359 -0.0941 0.03075 -0.08472 0.01804 C -0.08056 0.01226 -0.07448 0.00809 -0.06997 0.00278 C -0.06441 -0.00347 -0.06076 -0.01063 -0.05521 -0.01688 C -0.04688 -0.02636 -0.05017 -0.02844 -0.03889 -0.03445 C -0.03004 -0.04578 -0.025 -0.0474 -0.01267 -0.04971 C 0.0059 -0.04902 0.02465 -0.0504 0.04305 -0.04763 C 0.04514 -0.0474 0.05555 -0.02936 0.05955 -0.02566 C 0.06319 -0.0104 0.06875 0.00231 0.07917 0.00925 C 0.08854 0.02775 0.10799 0.02775 0.12344 0.03098 C 0.13594 0.0296 0.14861 0.02821 0.16111 0.02682 C 0.18489 0.02405 0.19236 0.02058 0.20382 -0.00601 C 0.20746 -0.01433 0.20712 -0.00948 0.20712 -0.0148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896 0.00208 C -0.43906 -0.02427 -0.45243 0.0074 -0.44063 -0.01109 C -0.43906 -0.01364 -0.43906 -0.01757 -0.43733 -0.01988 C -0.43559 -0.02219 -0.43281 -0.02219 -0.4309 -0.02427 C -0.41389 -0.04277 -0.42639 -0.03745 -0.41285 -0.04161 C -0.39931 -0.05965 -0.36597 -0.05803 -0.35052 -0.05919 C -0.33524 -0.05849 -0.31997 -0.05896 -0.30469 -0.05688 C -0.3026 -0.05664 -0.30156 -0.05364 -0.29965 -0.05248 C -0.29653 -0.05063 -0.28993 -0.04832 -0.28993 -0.04809 C -0.28819 -0.04531 -0.28698 -0.04185 -0.2849 -0.03953 C -0.28351 -0.03815 -0.28142 -0.03861 -0.28003 -0.03722 C -0.27847 -0.0356 -0.27795 -0.03283 -0.27674 -0.03075 C -0.27257 -0.02404 -0.26892 -0.01803 -0.26354 -0.01341 C -0.25226 0.00717 -0.26632 -0.01526 -0.25052 -0.00023 C -0.24896 0.00139 -0.24878 0.00463 -0.24722 0.00625 C -0.24149 0.01156 -0.23368 0.01388 -0.2276 0.01943 C -0.21597 0.01804 -0.20885 0.01573 -0.19809 0.01295 C -0.18976 0.0074 -0.1809 0.00602 -0.17188 0.00208 C -0.16024 -0.00809 -0.14514 -0.01202 -0.13247 -0.01988 C -0.12135 -0.02659 -0.11128 -0.0363 -0.09965 -0.04161 C -0.08559 -0.04786 -0.07014 -0.05225 -0.05538 -0.05479 C -0.04115 -0.0541 -0.02674 -0.05595 -0.01285 -0.05248 C -0.01233 -0.05225 -0.00799 -0.02705 -0.00781 -0.02635 C -0.00382 -0.00231 -0.00208 0.00139 0.01667 0.00625 C 0.03299 0.00555 0.04948 0.00648 0.0658 0.00417 C 0.06892 0.0037 0.07118 -0.00046 0.07413 -0.00231 C 0.08194 -0.00693 0.08385 -0.00531 0.09045 -0.01109 C 0.1066 -0.02566 0.12187 -0.04231 0.13802 -0.05688 C 0.14306 -0.06728 0.14497 -0.06982 0.15434 -0.07214 C 0.16771 -0.06797 0.17778 -0.06381 0.18559 -0.04832 C 0.18872 -0.03052 0.19271 -0.01341 0.20035 0.00208 C 0.20521 0.00139 0.21701 0.0007 0.22326 -0.00231 C 0.22882 -0.00485 0.23958 -0.01109 0.23958 -0.01086 C 0.24271 -0.01734 0.24705 -0.02196 0.24948 -0.02867 E">
                                      <p:cBhvr>
                                        <p:cTn id="2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3399ff"/>
                </a:solidFill>
                <a:latin typeface="Broadway"/>
              </a:rPr>
              <a:t>EARLY 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cc"/>
                </a:solidFill>
                <a:latin typeface="Comic Sans MS"/>
              </a:rPr>
              <a:t>Benjamin Franklin was born on Milk Street in Boston on Januari 17, 1706 and baptized at Old South Meeting House.</a:t>
            </a:r>
            <a:r>
              <a:rPr b="0" lang="de-DE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cc"/>
                </a:solidFill>
                <a:latin typeface="Comic Sans MS"/>
              </a:rPr>
              <a:t>His father, Josiah Franklin, was a tallow chandler, a maker of candles and soap, whose second wife, Abiah Folger, was Benjamin's mother. Josiah's marriages produced 17 children; Benjamin was the fifteenth child and youngest 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281 -0.01087 C -0.63142 -0.0178 -0.63055 -0.02751 -0.62621 -0.0326 C -0.61284 -0.04832 -0.59913 -0.0541 -0.58194 -0.05896 C -0.57482 -0.05827 -0.56753 -0.0585 -0.56059 -0.05665 C -0.5585 -0.05618 -0.55173 -0.04763 -0.55086 -0.04578 C -0.54826 -0.04023 -0.54704 -0.03353 -0.54427 -0.02821 C -0.53993 -0.01965 -0.53489 -0.01087 -0.53107 -0.00208 C -0.5125 0.04069 -0.53576 -0.00647 -0.51805 0.02844 C -0.51701 0.03029 -0.51753 0.03353 -0.51631 0.03514 C -0.5151 0.03676 -0.51302 0.03653 -0.51145 0.03723 C -0.49947 0.06058 -0.47725 0.04555 -0.45902 0.04162 C -0.44618 0.03468 -0.43281 0.02566 -0.41961 0.01965 C -0.41041 0.0074 -0.41649 0.01503 -0.4 -0.00208 C -0.39479 -0.00763 -0.39409 -0.01734 -0.3901 -0.02381 C -0.38559 -0.03121 -0.38194 -0.03168 -0.37708 -0.03699 C -0.35989 -0.05595 -0.35086 -0.0659 -0.32777 -0.06983 C -0.31701 -0.07445 -0.30572 -0.07561 -0.29513 -0.08069 C -0.28958 -0.08 -0.28385 -0.08046 -0.27864 -0.07838 C -0.27569 -0.07723 -0.26614 -0.0578 -0.26562 -0.05665 C -0.26215 -0.05017 -0.26197 -0.04162 -0.25902 -0.03491 C -0.25538 -0.02682 -0.25312 -0.01873 -0.24913 -0.01087 C -0.24861 -0.00439 -0.24843 0.00231 -0.24756 0.00879 C -0.24531 0.02705 -0.23072 0.02613 -0.21961 0.02844 C -0.20763 0.02775 -0.19548 0.02751 -0.1835 0.02636 C -0.1717 0.0252 -0.16475 0.00532 -0.15572 -0.00416 C -0.15173 -0.01988 -0.13506 -0.0363 -0.12465 -0.04578 C -0.11597 -0.06266 -0.12864 -0.04046 -0.11302 -0.05665 C -0.11024 -0.05942 -0.10902 -0.06428 -0.10659 -0.06751 C -0.10243 -0.07306 -0.09566 -0.07607 -0.0901 -0.07838 C -0.08316 -0.08462 -0.07691 -0.08717 -0.06875 -0.08948 C -0.04201 -0.08624 -0.05503 -0.09017 -0.03923 -0.0763 C -0.03628 -0.07098 -0.03229 -0.06659 -0.02951 -0.06104 C -0.025 -0.05225 -0.0276 -0.04832 -0.01961 -0.04139 C -0.01423 -0.01896 -0.02274 -0.05249 -0.01475 -0.02821 C -0.01388 -0.02543 -0.01441 -0.02197 -0.01302 -0.01965 C -0.00694 -0.00902 -0.00468 -0.01249 -4.44444E-006 -3.12139E-006 E">
                                      <p:cBhvr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99ff"/>
                </a:solidFill>
                <a:latin typeface="Broadway"/>
              </a:rPr>
              <a:t>MUSICAL ENDEAV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cc"/>
                </a:solidFill>
                <a:latin typeface="Comic Sans MS"/>
              </a:rPr>
              <a:t>Franklin is known to have played the violin, the harp, and the guitar. He also composed music, notably a string quartet in early classical style, and invented a much-improved version of the glass harmo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58 0.01618 C -0.49306 0.00138 -0.5 -0.03515 -0.48385 -0.04278 C -0.47812 -0.05411 -0.4724 -0.05804 -0.46406 -0.06682 C -0.43663 -0.09619 -0.41059 -0.09896 -0.37552 -0.10382 C -0.35503 -0.10266 -0.33628 -0.11445 -0.33142 -0.08856 C -0.33021 -0.06497 -0.32917 -0.05041 -0.32326 -0.0296 C -0.32118 -0.02312 -0.32309 -0.01295 -0.31823 -0.00995 C -0.31007 -0.00463 -0.31406 -0.00648 -0.30712 -0.00347 C -0.28715 -0.00625 -0.27187 -0.0044 -0.2559 -0.01873 C -0.25191 -0.02706 -0.25087 -0.03492 -0.24948 -0.04486 C -0.24844 -0.06382 -0.25069 -0.07376 -0.24132 -0.08648 C -0.23611 -0.10729 -0.21302 -0.11445 -0.19878 -0.117 C -0.18542 -0.11561 -0.17205 -0.11723 -0.1592 -0.1126 C -0.15017 -0.10937 -0.1474 -0.09179 -0.14444 -0.08208 C -0.14271 -0.05341 -0.14774 -0.01041 -0.13976 0.01179 C -0.13351 0.02821 -0.11997 0.02982 -0.10833 0.03375 C -0.10503 0.03491 -0.09861 0.03792 -0.09861 0.03815 C -0.05677 0.03537 -0.075 0.03699 -0.05104 0.02936 C -0.03767 0.01503 -0.03472 0.00277 -0.0316 -0.01873 C -0.03281 -0.04416 -0.03542 -0.07237 -0.0316 -0.09734 C -0.03056 -0.10197 -0.02604 -0.10359 -0.02309 -0.10613 C -0.01285 -0.11515 0.00069 -0.11838 0.01267 -0.12139 C 0.09375 -0.11746 0.03889 -0.12324 0.07153 -0.1126 C 0.08229 -0.10151 0.08889 -0.08717 0.09479 -0.07122 C 0.09705 -0.05041 0.09722 -0.0222 0.10139 -0.00347 C 0.10556 0.01503 0.12309 0.02497 0.13594 0.02936 C 0.16337 0.02335 0.16962 0.02451 0.18993 0.00531 C 0.20139 -0.01758 0.18247 0.01734 0.19983 -0.00555 C 0.20191 -0.00833 0.20347 -0.01665 0.20469 -0.02081 C 0.20469 -0.02312 0.19427 -0.08232 0.20972 -0.08856 C 0.21128 -0.08995 0.21458 -0.09295 0.21458 -0.09272 E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99ff"/>
                </a:solidFill>
                <a:latin typeface="Broadway"/>
              </a:rPr>
              <a:t>INVENTIONS AND SCIENTIFIC INQUI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cc"/>
                </a:solidFill>
                <a:latin typeface="Comic Sans MS"/>
              </a:rPr>
              <a:t>Franklin was a prodigious inventor. Among his many creations were the lighting rod, the glass harmonica.</a:t>
            </a:r>
            <a:br>
              <a:rPr sz="3200"/>
            </a:br>
            <a:r>
              <a:rPr b="1" lang="de-DE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84640"/>
            <a:ext cx="2417760" cy="316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6165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cc"/>
                </a:solidFill>
                <a:latin typeface="Comic Sans MS"/>
              </a:rPr>
              <a:t>Glass harm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69 -0.05665 -0.0026 -0.03052 0.02292 -0.06335 C 0.02465 -0.06544 0.02587 -0.06844 0.02795 -0.06983 C 0.03802 -0.07653 0.04826 -0.07769 0.05903 -0.08093 C 0.0651 -0.08278 0.07708 -0.0874 0.07708 -0.0874 C 0.09514 -0.08671 0.11319 -0.0874 0.13108 -0.08532 C 0.13767 -0.08463 0.14427 -0.06567 0.14427 -0.06567 C 0.1467 -0.05503 0.15052 -0.04694 0.15417 -0.03723 C 0.1559 -0.0148 0.1592 0.00324 0.17708 0.01087 C 0.1809 0.01017 0.18472 0.00994 0.18854 0.00878 C 0.19358 0.00717 0.2033 0.00208 0.2033 0.00208 C 0.20712 -0.00301 0.21094 -0.00809 0.21476 -0.01318 C 0.21632 -0.01526 0.21962 -0.01965 0.21962 -0.01965 C 0.22083 -0.02613 0.22101 -0.03307 0.22292 -0.03931 C 0.22812 -0.05642 0.24045 -0.08162 0.25417 -0.0874 C 0.26719 -0.09919 0.27691 -0.10081 0.2934 -0.10266 C 0.30746 -0.10012 0.31615 -0.09642 0.32621 -0.08301 C 0.32674 -0.0511 0.32465 -0.01873 0.32795 0.01295 C 0.32882 0.02173 0.33715 0.02636 0.34271 0.02844 C 0.34705 0.03006 0.35573 0.0326 0.35573 0.0326 C 0.38628 0.03052 0.38594 0.03815 0.4 0.01087 C 0.40069 -0.00948 0.39583 -0.03237 0.4033 -0.05017 C 0.40486 -0.05387 0.40799 -0.05572 0.4099 -0.05896 C 0.41892 -0.07515 0.42309 -0.08879 0.43941 -0.09387 C 0.45035 -0.10382 0.46458 -0.1059 0.47708 -0.11145 C 0.4967 -0.11075 0.51667 -0.11399 0.53611 -0.10913 C 0.53924 -0.10821 0.53924 -0.09619 0.53924 -0.09619 C 0.53993 -0.05757 0.53993 -0.01896 0.54097 0.01965 C 0.54115 0.02844 0.54722 0.03237 0.55243 0.03491 C 0.56441 0.03422 0.57656 0.03445 0.58854 0.0326 C 0.59201 0.03214 0.60208 0.02381 0.6066 0.02173 C 0.60764 0.01965 0.60816 0.01688 0.6099 0.01526 C 0.61128 0.01387 0.61389 0.0148 0.61458 0.01295 C 0.61719 0.00786 0.61649 0.00115 0.61805 -0.00439 C 0.61389 -0.03075 0.61215 -0.03653 0.61805 -0.07653 C 0.61892 -0.08231 0.6342 -0.08624 0.63767 -0.0874 C 0.65035 -0.0985 0.67101 -0.09827 0.68524 -0.09827 E">
                                      <p:cBhvr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20862000">
            <a:off x="1258560" y="1267920"/>
            <a:ext cx="597708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1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Harrington"/>
              </a:rPr>
              <a:t>FIN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pic>
        <p:nvPicPr>
          <p:cNvPr id="59" name="" descr="Benjamin Franklin by Benjamin Wilson, 1759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76500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49:56Z</dcterms:created>
  <dc:creator>Alumno54</dc:creator>
  <dc:description/>
  <dc:language>en-US</dc:language>
  <cp:lastModifiedBy>Alumno54</cp:lastModifiedBy>
  <dcterms:modified xsi:type="dcterms:W3CDTF">2008-06-09T08:18:11Z</dcterms:modified>
  <cp:revision>12</cp:revision>
  <dc:subject/>
  <dc:title>Diapositiva 1</dc:title>
</cp:coreProperties>
</file>